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0947-E55A-46BD-B505-DECB910C1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a technical overview of Scott Mitchell’s book Designing Active Server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ok is a guide to writing reusable code. It emphasizes ideas of code reusability that help the reader see how making an effort to write generic code once can save programmers time (and money)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ok focuses on the subject of better code design but it is also a book about writing advanced ASP. It shows which ASP features are to be used in order to be able to take the maximum advantage of this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book also introduces building Object Oriented Applications. It introduces a Microsoft technology to build simple components from scripts using the Microsoft Window Script Component Wizard.  The book also gives example of useful existing COM components supplied with Internet Information Server or available in the market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good code programming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code has minimum number of errors, however, since it is very unrealistic to expect code free of errors, it is a good programming practice to guess where errors would occur, and to catch this errors at the right spot. This practice is called exception hand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al errors are errors in the program plan and design. Implementation errors are in the code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ation errors can be divided into halting and non-halting errors. Halting errors cause the program to crash. Non-halting errors are sometimes difficult to find since the program may seem to be running correctly, but the results that it produces may be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ting errors can be divided again into two sub-categories: runtime errors and compile-time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ile time errors are caught by the compiler. Runtime errors occur when an unexpected event happens during execution (for example: in VBScript – division by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the programmer’s goal to catch exceptions and to handle them, meaning to display a readable friendly message to the users, and to lead the users maybe even to solving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BScript handles errors in a similar way to Visual Basic. It uses the On Error Resume Next statement to tell the script engine to be ready to catch an error, and when an error occurs it catches it and puts its details in the Err object. The program can be kept running, or halted in a controlled manner by the progra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PError object is a new feature in ASP and is only available with IIS 5.0.The new IIS has a Server.Transfer method which transfers the execution of script to a different ASP script on the fly. The developer can setup the server to automatically transfer the execution of a page to an error handling page in case of an error. All errors are caught by the ASPError object that holds all the needed information, that can tell the programmer whether she should halt the program with a descriptive message, or should she go back to the page that originated the error, and continue with execution. The error handling page should also notify the support team about the error that had occur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features in ASP help to build better and more reusabl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Server Side Include is not new in ASP. It allows the programmer to build her small library of common routines and keep them in files that can be included and used in any page later. A common use of server side include in ASP would be to create a database connection object in an include file. This way, if the database connection string is changed, the programmer does not need to search for it in each and every page that connects to the database, and the the code has to be changed only in one convenient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useful way to create reusable code with ASP is by using VBScript classes. These allow programmers to encapsulate complex tasks in them, and can help hide complex implementation code from the main application. Classes and Server Side Include combined together create powerful applications. They allow the programmer put minimum code in the front end ASP page. Classes can be made generic so that when the same functionality of the class is needed again, the class can simply be included again and again. Classes are a new feature in VBScript and can only be used in version 5 and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new and useful feature in VBScript is the ability to dynamically evaluate expressions or execute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one ASP page could be set to decide which statements are needed for execution in a second page, and can pass this information on to an execution page. Again, this feature can save many line of codes, and help hide implementation in server side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pressions are available both in VBScript and JavaScript. The programmer can create her own library of regular expressions to be used again and again in evaluating user input. A good library of regular expressions can be written once and used in many applications for server side form validation. Regular expressions are also great for use in client side form validation (more details to come i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useful feature I will mention here is the ability to “jump” from executing one ASP page to another and back dynamically. Server.Execute allows the execution of a different ASP page within the current page. It is similar to having a dynamic include where it is unknown in advance which include file to use. All the intrinsic objects of the original ASP will be available in the executed ASP including the Request object that hold information posted by an HTML form. Server.Transfer is similar to Server.Execute, but it will transfer the execution to anther page without returning to the original on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xample the book provides of code reuse in ASP is an example of form r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person who have used the web has used an HTML form. A text-box in a search engine is an example of the simplest form, with one input line from the user, and one submit button. There might be some hidden form fields as well in the page that the user cannot see. In any case, from a programmer stand point, the data submitted to the form by the user has to be validated before it can be processed on th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ypes of form validations: client side form validations (mostly written in JavaScript) and server side validations (can be written in any scripting language supported by the web server.) Client side form validations are good to save expensive network requests, and this way to save user’s waiting time. Because not all clients support JavaScript and because it is relatively easy to get around client scripts if handled by a malicious user, it is almost  always required to use server side validations as well. The advantage of the server side scripts are that the programmer have full control over the script, and they can be implemented in any language des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good idea to use both client side validations to save user’s time and server side form validations as a measure of safety. There are some similarities between client side and server side form validations. First, they both check for the same validation rules: for example that an input string of a username is between 4 to 12 characters long. Second, they both generate the same error message when the user input an invalid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good enough reasons to try and create a generic HTML forms that have both validations using the same rules and responses. As mentioned in the previous slide, using regular expressions to validate input can be a great solution. The same regular expressions can be used both by VBScript and JavaScript. The programmer has to create only one file of regular expressions. Later she can include her regular expression library both in the form presented to the end user using JavaScript, and also in the ASP that receives the request from the user and validate the input with the same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keeping every form field’s value as well as error message the example in the book creates a FormElement Class. Each FormElement object represents one specific field in the form. Every field has properties such as name, value and validation-rule. All this information, can be used to produces the HTML for an instance of an element. The entire form is actually a list of FormElement instances. This list is kept in a separate class called GenerateForm. GenerateForm has a property which is the list of form elements, and it also has some properties that describe an HTML form. The most important method this class has is the GenerateHTMLDocument which is public and it uses some private functions to generate HTML forms and valida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st chapter of the book gives examples of VBScript classes in much more detail. It uses all the ideas mentioned before to generate forms but this time with full database connectivity so that the forms are automatically generated by reading and learning the database schema supplied by ADO (ActiveX Database Objects.) Working hard on code that generates HTML forms is task well worth the effort. A good solid form generation code can save web developers tons of work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s to pull the database schema with ADO in order to generate forms automatically. The script, looks at the schema, at the database tables and the columns, and works like a wizard that guesses by the information it digs how to determine which input field is needed for each of the database columns, and by which validation rule to check this data. It can also look at the size of the column in the database, for example, and set the corresponding form field with a similar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base administration page is build in several stages. In the first stage the a class is built for gathering individual column information. This class is called ColumnInformation. Columns is a class that holds a list of ColumnInformation objects. This class has a method that populates the columns list and it needs a valid database connection object and a table name for this purpose. Another class that is needed for the database administration page is the ForeignKeyInformation class and it is used by the ForeignKeys class which is a list of all the foreign keys in a table. The third class needed is a class that decides how to display the columns in the form. It’s name is DataTypeFormElementInformation. Given a data-type for each specific column, the programmer creates a list of HTML form elements with this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class that uses all of these classes and hides them from the end user is the AdminPageGenerator class. The form created by the AdminPageGenerator redirect the data sent by a user to the AdminPageAction.asp, which processes the data and and either updates the database with the new data and sends the user to a confirmation page, or it sends back an error message in case the data did not pass the server side valid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ripts that are suggested in the book are very ambitious. They had taught me some interesting techniques, but I decided not to use them. The reason for it is that in my opinion, by being so generic, the scripts did not allow much flexibility in the HTML form creation. Another problem that I found in the code presented in the book, which is more serious, is the fact that it uses HTML hidden fields to transfer information about database schema information as well as database connection strings. This could cause a security hole and a malicious user could use this information to gain access to the database. My suggestion: learn from the book but do it yourself.</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uggestion is to use components somebody else had built before and that have proven reliable over time. Sometimes a one hundred dollars component can save the programmer dozens of hours of work. With a technology such as ASP there is such a wide market for components, many of them are completely free, and it is sometimes a very good idea to search for them before trying to implemen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ok ends with several example of components that are available in the market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Exec is free a component from Stephen Genusa’s company (www.serverobjects.com) that can execute dos and windows applications on the web server. For example it could be use to run a ping application from a web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serHawk by cyScape is a versatile solution to find out all the information possible about the browser a user is using. It is very useful tool to let the programmer the option to customize the site to its maximum potential for each user. The component supplies information about the client such as the screen resolution, what scripting language are supported, is XML/ ActiveX/ Java supporte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ok presents several more useful components. The final one I would like to mention is the SA-FileUp component by Software Artisans. It is a component that allows users to upload files to the web server from a brow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conclude with a few friendly words of ad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commend the book to learn about Microsoft Active Server Pages and to get familiarized with all the latest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ok is also recommended for web programmers in general, and it helps to understand ideas of code reusability and encaps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ggest that you learn from the samples in the book, but do not use all the code for real application, or take all of it for granted. I believe that passing database information inside plain HTML code is generally not a good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why I suggest that you look for good components elsewhere or build them yourself after you learn 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liste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BD56C-2D49-4981-8E05-225ACE6B6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9F71F-67AF-4A8B-8797-63D75BEA6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42444-E9FD-4C1D-8D21-27BFB302F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89451-68EB-4F9A-ADC9-46B65D1B4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CD64C-92A3-4471-BD28-DD6DF4879C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8F00E-B441-4F88-9805-F77E69629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DDB1E-FBAC-4D44-BB18-7B9D2A92A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F4069-7DB0-474F-8947-3A6ACF9C3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1F5BD-0445-4361-8B2B-1B0EF9B43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156E8-61A2-4E46-B485-D40471877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E865E-BEE8-4E2C-8B6C-E1F38C529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AF81C-EFA9-498D-9DEE-DC629BBAA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8"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A3012-1283-4DCF-A505-68A5D1DE0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2"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1B023-3BDC-491F-BE33-A2A122E5A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6"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BFB6E-BFD3-4E76-9B45-B3715C1E6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D51C59-E1CE-4E24-87F5-02823F2408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09F32A-F04D-42B6-963C-300275899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40602-39AF-4E13-95E8-A49603369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C28E8-433F-4FDB-861A-63DD21979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11894-B757-4D3B-837F-B63E53094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40FC8-9D44-419E-A25F-5B121AF0B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A969B-23DA-4CA1-8B31-3D149A263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5E912-4B7E-42C3-BC98-D56481E42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4C48C-5FCA-4DDB-A680-C43E66C3E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0BE27-1CA0-42EE-A6E7-D6FB32294C91}"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5CF9-F892-41D5-867D-0EA4533FB0F4}"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6633"/>
                </a:solidFill>
                <a:latin typeface="Times New Roman"/>
              </a:rPr>
              <a:t>Designing Active Server Pages –</a:t>
            </a:r>
            <a:br>
              <a:rPr sz="3600"/>
            </a:br>
            <a:r>
              <a:rPr b="0" i="1" lang="en-US" sz="3600" spc="-1" strike="noStrike">
                <a:solidFill>
                  <a:srgbClr val="996633"/>
                </a:solidFill>
                <a:latin typeface="Times New Roman"/>
              </a:rPr>
              <a:t>A book by Scott Mitchell</a:t>
            </a:r>
            <a:endParaRPr b="0" i="1" lang="en-US" sz="3600" spc="-1" strike="noStrike">
              <a:solidFill>
                <a:srgbClr val="996633"/>
              </a:solidFill>
              <a:latin typeface="Times New Roman"/>
            </a:endParaRPr>
          </a:p>
        </p:txBody>
      </p:sp>
      <p:sp>
        <p:nvSpPr>
          <p:cNvPr id="11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ide to Writing Reusable Code</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ASP book</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 Oriented Design introdu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7010280" y="5334120"/>
            <a:ext cx="1371600" cy="1371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r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ndl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e</a:t>
            </a:r>
            <a:endParaRPr b="0" lang="en-US" sz="2400" spc="-1" strike="noStrike">
              <a:solidFill>
                <a:srgbClr val="000000"/>
              </a:solidFill>
              <a:latin typeface="Times New Roman"/>
            </a:endParaRPr>
          </a:p>
        </p:txBody>
      </p:sp>
      <p:sp>
        <p:nvSpPr>
          <p:cNvPr id="120" name=""/>
          <p:cNvSpPr/>
          <p:nvPr/>
        </p:nvSpPr>
        <p:spPr>
          <a:xfrm>
            <a:off x="4952880" y="4724280"/>
            <a:ext cx="1295640" cy="1219320"/>
          </a:xfrm>
          <a:prstGeom prst="flowChartDocumen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e</a:t>
            </a: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he Importance of Exception Handling</a:t>
            </a:r>
            <a:endParaRPr b="0" i="1" lang="en-US" sz="4400" spc="-1" strike="noStrike">
              <a:solidFill>
                <a:srgbClr val="996633"/>
              </a:solidFill>
              <a:latin typeface="Times New Roman"/>
            </a:endParaRPr>
          </a:p>
        </p:txBody>
      </p:sp>
      <p:sp>
        <p:nvSpPr>
          <p:cNvPr id="122" name="PlaceHolder 2"/>
          <p:cNvSpPr>
            <a:spLocks noGrp="1"/>
          </p:cNvSpPr>
          <p:nvPr>
            <p:ph/>
          </p:nvPr>
        </p:nvSpPr>
        <p:spPr>
          <a:xfrm>
            <a:off x="1517760" y="3276360"/>
            <a:ext cx="7626240" cy="25146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programs handle exce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BScript uses “On Error Resume Nex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PError object</a:t>
            </a:r>
            <a:endParaRPr b="0" lang="en-US" sz="3200" spc="-1" strike="noStrike">
              <a:solidFill>
                <a:srgbClr val="000000"/>
              </a:solidFill>
              <a:latin typeface="Times New Roman"/>
            </a:endParaRPr>
          </a:p>
        </p:txBody>
      </p:sp>
      <p:graphicFrame>
        <p:nvGraphicFramePr>
          <p:cNvPr id="123" name=""/>
          <p:cNvGraphicFramePr/>
          <p:nvPr/>
        </p:nvGraphicFramePr>
        <p:xfrm>
          <a:off x="1676520" y="1908000"/>
          <a:ext cx="7238880" cy="1178280"/>
        </p:xfrm>
        <a:graphic>
          <a:graphicData uri="http://schemas.openxmlformats.org/presentationml/2006/ole">
            <p:oleObj r:id="rId2" spid="">
              <p:embed/>
              <p:pic>
                <p:nvPicPr>
                  <p:cNvPr id="124" name="" descr=""/>
                  <p:cNvPicPr/>
                  <p:nvPr/>
                </p:nvPicPr>
                <p:blipFill>
                  <a:blip r:embed="rId3"/>
                  <a:stretch/>
                </p:blipFill>
                <p:spPr>
                  <a:xfrm>
                    <a:off x="1676520" y="1908000"/>
                    <a:ext cx="7238880" cy="1178280"/>
                  </a:xfrm>
                  <a:prstGeom prst="rect">
                    <a:avLst/>
                  </a:prstGeom>
                  <a:ln w="0">
                    <a:noFill/>
                  </a:ln>
                </p:spPr>
              </p:pic>
            </p:oleObj>
          </a:graphicData>
        </a:graphic>
      </p:graphicFrame>
      <p:sp>
        <p:nvSpPr>
          <p:cNvPr id="125" name=""/>
          <p:cNvSpPr/>
          <p:nvPr/>
        </p:nvSpPr>
        <p:spPr>
          <a:xfrm>
            <a:off x="6934320" y="5257800"/>
            <a:ext cx="1371600" cy="13716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r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ndl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e</a:t>
            </a:r>
            <a:endParaRPr b="0" lang="en-US" sz="2400" spc="-1" strike="noStrike">
              <a:solidFill>
                <a:srgbClr val="000000"/>
              </a:solidFill>
              <a:latin typeface="Times New Roman"/>
            </a:endParaRPr>
          </a:p>
        </p:txBody>
      </p:sp>
      <p:sp>
        <p:nvSpPr>
          <p:cNvPr id="126" name=""/>
          <p:cNvSpPr/>
          <p:nvPr/>
        </p:nvSpPr>
        <p:spPr>
          <a:xfrm>
            <a:off x="4876920" y="4648320"/>
            <a:ext cx="1295280" cy="1218960"/>
          </a:xfrm>
          <a:prstGeom prst="flowChartDocumen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e</a:t>
            </a:r>
            <a:endParaRPr b="0" lang="en-US" sz="2400" spc="-1" strike="noStrike">
              <a:solidFill>
                <a:srgbClr val="000000"/>
              </a:solidFill>
              <a:latin typeface="Times New Roman"/>
            </a:endParaRPr>
          </a:p>
        </p:txBody>
      </p:sp>
      <p:cxnSp>
        <p:nvCxnSpPr>
          <p:cNvPr id="127" name=""/>
          <p:cNvCxnSpPr>
            <a:stCxn id="126" idx="3"/>
            <a:endCxn id="125" idx="1"/>
          </p:cNvCxnSpPr>
          <p:nvPr/>
        </p:nvCxnSpPr>
        <p:spPr>
          <a:xfrm>
            <a:off x="6171840" y="5257440"/>
            <a:ext cx="762840" cy="686520"/>
          </a:xfrm>
          <a:prstGeom prst="curvedConnector5">
            <a:avLst>
              <a:gd name="adj1" fmla="val 50000"/>
              <a:gd name="adj2" fmla="val 50000"/>
              <a:gd name="adj3" fmla="val 50000"/>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Helpful Features in ASP</a:t>
            </a:r>
            <a:endParaRPr b="0" i="1" lang="en-US" sz="4400" spc="-1" strike="noStrike">
              <a:solidFill>
                <a:srgbClr val="996633"/>
              </a:solidFill>
              <a:latin typeface="Times New Roman"/>
            </a:endParaRPr>
          </a:p>
        </p:txBody>
      </p:sp>
      <p:sp>
        <p:nvSpPr>
          <p:cNvPr id="129"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erver Side Includes to build a library</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VBScript Classes to encapsulate data</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Dynamic Evaluation and Execu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Regular Express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erver.Execute and Server.Transf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eusable Code: Creating a Generic HTML Form</a:t>
            </a:r>
            <a:endParaRPr b="0" i="1" lang="en-US" sz="4400" spc="-1" strike="noStrike">
              <a:solidFill>
                <a:srgbClr val="996633"/>
              </a:solidFill>
              <a:latin typeface="Times New Roman"/>
            </a:endParaRPr>
          </a:p>
        </p:txBody>
      </p:sp>
      <p:sp>
        <p:nvSpPr>
          <p:cNvPr id="131"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side form validation is fast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side form validation is saf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bot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ving time by a generic form reuse</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king the complexity using clas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Reusable Code: Creating a Generic Database Admin. Page</a:t>
            </a:r>
            <a:endParaRPr b="0" i="1" lang="en-US" sz="4400" spc="-1" strike="noStrike">
              <a:solidFill>
                <a:srgbClr val="996633"/>
              </a:solidFill>
              <a:latin typeface="Times New Roman"/>
            </a:endParaRPr>
          </a:p>
        </p:txBody>
      </p:sp>
      <p:sp>
        <p:nvSpPr>
          <p:cNvPr id="133"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the db schema with ADO</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cript learns from the schema</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Easy”database administration page</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it yourself!</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omponents and Active Server Pages</a:t>
            </a:r>
            <a:endParaRPr b="0" i="1" lang="en-US" sz="4400" spc="-1" strike="noStrike">
              <a:solidFill>
                <a:srgbClr val="996633"/>
              </a:solidFill>
              <a:latin typeface="Times New Roman"/>
            </a:endParaRPr>
          </a:p>
        </p:txBody>
      </p:sp>
      <p:sp>
        <p:nvSpPr>
          <p:cNvPr id="13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it yourself?</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reinvent the wheel?</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PExec lets you run server applica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wserHawk teaches you more about your visito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ileUp allows uploads to your si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onclusion</a:t>
            </a:r>
            <a:endParaRPr b="0" i="1" lang="en-US" sz="4400" spc="-1" strike="noStrike">
              <a:solidFill>
                <a:srgbClr val="996633"/>
              </a:solidFill>
              <a:latin typeface="Times New Roman"/>
            </a:endParaRPr>
          </a:p>
        </p:txBody>
      </p:sp>
      <p:sp>
        <p:nvSpPr>
          <p:cNvPr id="13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mmended book for web programm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from the samples in the book</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use the code from the book</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existing component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build your ow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Thank You for Listening</a:t>
            </a:r>
            <a:endParaRPr b="0" i="1" lang="en-US" sz="4400" spc="-1" strike="noStrike">
              <a:solidFill>
                <a:srgbClr val="996633"/>
              </a:solidFill>
              <a:latin typeface="Times New Roman"/>
            </a:endParaRPr>
          </a:p>
        </p:txBody>
      </p:sp>
      <p:pic>
        <p:nvPicPr>
          <p:cNvPr id="139" name="so01038_" descr=""/>
          <p:cNvPicPr/>
          <p:nvPr/>
        </p:nvPicPr>
        <p:blipFill>
          <a:blip r:embed="rId2"/>
          <a:stretch/>
        </p:blipFill>
        <p:spPr>
          <a:xfrm>
            <a:off x="5029200" y="3276720"/>
            <a:ext cx="3105000" cy="3124080"/>
          </a:xfrm>
          <a:prstGeom prst="rect">
            <a:avLst/>
          </a:prstGeom>
          <a:ln w="0">
            <a:noFill/>
          </a:ln>
        </p:spPr>
      </p:pic>
      <p:sp>
        <p:nvSpPr>
          <p:cNvPr id="140" name=""/>
          <p:cNvSpPr/>
          <p:nvPr/>
        </p:nvSpPr>
        <p:spPr>
          <a:xfrm>
            <a:off x="1828800" y="2209680"/>
            <a:ext cx="45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9T17:11:00Z</dcterms:created>
  <dc:creator>Ran Bester</dc:creator>
  <dc:description/>
  <dc:language>en-US</dc:language>
  <cp:lastModifiedBy>Ran Bester</cp:lastModifiedBy>
  <dcterms:modified xsi:type="dcterms:W3CDTF">2001-01-01T19:25:22Z</dcterms:modified>
  <cp:revision>41</cp:revision>
  <dc:subject/>
  <dc:title>Designing Active Server Pages</dc:title>
</cp:coreProperties>
</file>